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7E344-8838-46C8-B939-E8CDF3408D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CF75E-8E2A-4A87-AADE-AD3F0A14A12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032FF-9E27-46D5-BCE2-7A3B90E9077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5EF63F-AE4F-4387-8A1E-F12BEB74225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8394DAD-037D-4B54-A5A3-31E573953C6C}" type="datetime">
              <a:rPr b="0" lang="fr-FR" sz="1200" spc="-1" strike="noStrike">
                <a:solidFill>
                  <a:srgbClr val="000000"/>
                </a:solidFill>
                <a:latin typeface="Times New Roman"/>
                <a:ea typeface="Arial"/>
              </a:rPr>
              <a:t>30/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B214E-E37D-4B15-A9A4-265E4AAFCB4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4F4F2-D578-4FC6-9FBA-0E680FED050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7B54AF-2FDA-41C7-A456-37D63BF838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7FB2B-ED34-46CB-9ABD-E6E92DB61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2E4487-3AAE-4AA0-B388-69D4FCE67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3B2859-EB7C-4E26-9084-1C27CD2201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3CB42-686E-49FB-BBCA-E19914147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65F61-D741-459B-AC45-BA7678194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6224C-43DF-452F-BB28-616489C64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621D8-EC6B-4C14-9EFB-4F2DF7FE6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0C0E3-EE39-4F9E-8BDA-3E98BB046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F1764-1701-42DE-8CA6-44FA42685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66089-5F00-48E9-907C-87BA2E014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FA31B-5E96-4F10-9453-B4140D5E06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38CCD-8EE8-4E3E-8C9C-0EA9BC080B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D0275CD-29ED-4306-A52B-80F1B45D61D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B973F-DE31-4D5B-A482-8B581DC81773}"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2543C-C18F-44D4-ACCF-0A71C5B684CC}"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